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34F-5C02-43EA-BBDC-60DBC50E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FAE-4C92-4ABB-8F89-763D74C0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AB2-BE10-414F-B058-9C5A34F7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5B6-1CA7-46AF-BDE1-4DBD9F45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059-8E68-46EC-9E02-AB069254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9CC-603C-479E-9495-BF04E94A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15C-64F1-4F46-9286-1EAA4277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03F-1A0D-4F4D-B7D7-2BA1A15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1E4-147A-4E64-803A-B6D02C7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614-8F1E-4BE4-92B1-8F23042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509-EF43-4061-ADAD-1BE3C53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CCB-6154-4883-851D-0F7C796E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5A92-D808-47E8-908F-E4566DC9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delivery.superstock.com/WI/223/1569/PreviewComp/SuperStock_1569R-160007.jpg" TargetMode="External"/><Relationship Id="rId2" Type="http://schemas.openxmlformats.org/officeDocument/2006/relationships/hyperlink" Target="http://www.busymom.net/reviews/dunkin-donuts.jpg" TargetMode="External"/><Relationship Id="rId3" Type="http://schemas.openxmlformats.org/officeDocument/2006/relationships/hyperlink" Target="http://maxcdn.fooyoh.com/files/attach/images/3004/586/290/004/17-Dunkin-Donuts-Plain-Bagel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 pudiera cambiar 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 salv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a Dunkin Don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unkindonuts3"/>
          <p:cNvPicPr/>
          <p:nvPr/>
        </p:nvPicPr>
        <p:blipFill>
          <a:blip r:embed="rId1"/>
          <a:stretch/>
        </p:blipFill>
        <p:spPr>
          <a:xfrm>
            <a:off x="2057400" y="2286000"/>
            <a:ext cx="4572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d2"/>
          <p:cNvPicPr/>
          <p:nvPr/>
        </p:nvPicPr>
        <p:blipFill>
          <a:blip r:embed="rId1"/>
          <a:stretch/>
        </p:blipFill>
        <p:spPr>
          <a:xfrm>
            <a:off x="0" y="152280"/>
            <a:ext cx="3733920" cy="129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mages"/>
          <p:cNvPicPr/>
          <p:nvPr/>
        </p:nvPicPr>
        <p:blipFill>
          <a:blip r:embed="rId2"/>
          <a:stretch/>
        </p:blipFill>
        <p:spPr>
          <a:xfrm>
            <a:off x="6858000" y="533520"/>
            <a:ext cx="2060640" cy="2525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d1"/>
          <p:cNvPicPr/>
          <p:nvPr/>
        </p:nvPicPr>
        <p:blipFill>
          <a:blip r:embed="rId3"/>
          <a:stretch/>
        </p:blipFill>
        <p:spPr>
          <a:xfrm>
            <a:off x="0" y="1752480"/>
            <a:ext cx="330516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2917080" y="160020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www.busybuzzblogging.com/wp-content/uploads/2010/05/Free-Iced-Coffee-Day-2010-At-Dunkin-Donuts.jpg"/>
          <p:cNvPicPr/>
          <p:nvPr/>
        </p:nvPicPr>
        <p:blipFill>
          <a:blip r:embed="rId4"/>
          <a:stretch/>
        </p:blipFill>
        <p:spPr>
          <a:xfrm>
            <a:off x="5257800" y="3048120"/>
            <a:ext cx="1905120" cy="2571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http://www.busybuzzblogging.com/wp-content/uploads/2010/05/Free-Iced-Coffee-Day-2010-At-Dunkin-Donuts.jpg"/>
          <p:cNvPicPr/>
          <p:nvPr/>
        </p:nvPicPr>
        <p:blipFill>
          <a:blip r:embed="rId5"/>
          <a:stretch/>
        </p:blipFill>
        <p:spPr>
          <a:xfrm>
            <a:off x="7238880" y="4286160"/>
            <a:ext cx="190512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www.busybuzzblogging.com/wp-content/uploads/2010/05/Free-Iced-Coffee-Day-2010-At-Dunkin-Donuts.jpg"/>
          <p:cNvPicPr/>
          <p:nvPr/>
        </p:nvPicPr>
        <p:blipFill>
          <a:blip r:embed="rId6"/>
          <a:stretch/>
        </p:blipFill>
        <p:spPr>
          <a:xfrm>
            <a:off x="3276720" y="4286160"/>
            <a:ext cx="190476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http://maxcdn.fooyoh.com/files/attach/images/3004/586/290/004/17-Dunkin-Donuts-Plain-Bagel.jpg"/>
          <p:cNvPicPr/>
          <p:nvPr/>
        </p:nvPicPr>
        <p:blipFill>
          <a:blip r:embed="rId7"/>
          <a:stretch/>
        </p:blipFill>
        <p:spPr>
          <a:xfrm>
            <a:off x="3276720" y="2590920"/>
            <a:ext cx="199368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3678120" y="47772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3360" y="-912960"/>
            <a:ext cx="24386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398760" cy="26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3360" y="50796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2989440" y="18954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fast club"/>
          <p:cNvPicPr/>
          <p:nvPr/>
        </p:nvPicPr>
        <p:blipFill>
          <a:blip r:embed="rId1"/>
          <a:stretch/>
        </p:blipFill>
        <p:spPr>
          <a:xfrm>
            <a:off x="4084560" y="3808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80880" y="1522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 cl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ired"/>
          <p:cNvPicPr/>
          <p:nvPr/>
        </p:nvPicPr>
        <p:blipFill>
          <a:blip r:embed="rId2"/>
          <a:stretch/>
        </p:blipFill>
        <p:spPr>
          <a:xfrm>
            <a:off x="304920" y="1906560"/>
            <a:ext cx="3609720" cy="361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"/>
          <p:cNvPicPr/>
          <p:nvPr/>
        </p:nvPicPr>
        <p:blipFill>
          <a:blip r:embed="rId3"/>
          <a:stretch/>
        </p:blipFill>
        <p:spPr>
          <a:xfrm>
            <a:off x="5334120" y="4524480"/>
            <a:ext cx="2085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of action/ Si clauses/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lier"/>
          <p:cNvPicPr/>
          <p:nvPr/>
        </p:nvPicPr>
        <p:blipFill>
          <a:blip r:embed="rId1"/>
          <a:stretch/>
        </p:blipFill>
        <p:spPr>
          <a:xfrm>
            <a:off x="3475080" y="1057320"/>
            <a:ext cx="5392800" cy="38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pack310qc.org/images/dollar-signs-money.jpg"/>
          <p:cNvPicPr/>
          <p:nvPr/>
        </p:nvPicPr>
        <p:blipFill>
          <a:blip r:embed="rId2"/>
          <a:stretch/>
        </p:blipFill>
        <p:spPr>
          <a:xfrm>
            <a:off x="609480" y="2971800"/>
            <a:ext cx="2409840" cy="333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3"/>
          <a:stretch/>
        </p:blipFill>
        <p:spPr>
          <a:xfrm>
            <a:off x="2666880" y="1523880"/>
            <a:ext cx="1676520" cy="227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4"/>
          <a:stretch/>
        </p:blipFill>
        <p:spPr>
          <a:xfrm>
            <a:off x="5576760" y="4729320"/>
            <a:ext cx="3229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d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unkin_donuts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ios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delivery.superstock.com/WI/223/1569/PreviewComp/SuperStock_1569R-160007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usymom.net/reviews/dunkin-donuts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xcdn.fooyoh.com/files/attach/images/3004/586/290/004/17-Dunkin-Donuts-Plain-Bagel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pack310qc.org/images/dollar-signs-money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publishedwriterforhire.wordpress.com/2011/10/23/website-content-writing-and-letter-writin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n.wikipedia.org/wiki/Barack_Ob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sodahead.com/fun/did-you-have-a-white-christmas/question-2356407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2:29:29Z</dcterms:created>
  <dc:creator>jbarber</dc:creator>
  <dc:description/>
  <dc:language>en-US</dc:language>
  <cp:lastModifiedBy>Jessica Kaplan</cp:lastModifiedBy>
  <dcterms:modified xsi:type="dcterms:W3CDTF">2012-05-17T11:47:42Z</dcterms:modified>
  <cp:revision>12</cp:revision>
  <dc:subject/>
  <dc:title>Si pudiera cambiar el mundo</dc:title>
</cp:coreProperties>
</file>